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1E30-E331-4EE0-B598-D3BD5585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8DDC-6B6E-49FF-BC37-68A90AF8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F6B-46D5-4471-B528-7B7C2376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71B1-67F2-4036-8B6D-67587C9A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2C7-0351-4C6A-8640-BB4CF5A3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BE84-6BA6-4650-93FA-1E456533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D633-2642-4F84-9254-CF459E9F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4313-FEF5-4AEE-AAA0-6CF7D4EE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CBE-91EE-4600-B686-544A3DD6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1613-0B51-4F99-AA81-A0DB13A2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277A-5A74-448C-92B0-4C9AA209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DFFD-2A97-44F6-9491-BEE8AD66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8964-FC9B-4345-9F92-7C853F584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0" y="-3117600"/>
            <a:ext cx="45720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72800" y="4647960"/>
            <a:ext cx="22860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276720"/>
            <a:ext cx="495288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manges-tu?” demande-t-il au ren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mange du lapin”, répond le ren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 secours!” crie Monsieur Lap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277720" y="2315520"/>
            <a:ext cx="35812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182120" y="4419720"/>
            <a:ext cx="16765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 renard se précipite sur lui pour le mang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72240" y="-427608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868280" y="4724280"/>
            <a:ext cx="198144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s n’arrive qu’a  lui croquer les oreil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5303880"/>
            <a:ext cx="3810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sieur Lapin tout tremblant rentre vite chez lu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353680" y="-3513240"/>
            <a:ext cx="152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63068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 les carottes font pousser les oreilles des lapins,   il s’en prépare une   grande marm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62320" y="54864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 appétit! Monsieur Lap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0"/>
            <a:ext cx="281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rouve ça très b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Monsieur Lapin à qui est-ce qu’il a demandé le prèmiere 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Qui mangé des v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La baleine mangé q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Vrais ou faux: M. Lapin trouve la marmite très b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Qui dit: “Au secours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Qui manges des lar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Qui manges les bana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Qui manges du lap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0" y="-463284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0" y="5943240"/>
            <a:ext cx="7632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920"/>
            <a:ext cx="2971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sieur Lapin n’aime plus les carot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448920" y="-3780000"/>
            <a:ext cx="3045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86840" y="5410080"/>
            <a:ext cx="1523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990720"/>
            <a:ext cx="4495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quitte sa maison pour aller regarder dans l’assiette de ses voisi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286640" y="1895760"/>
            <a:ext cx="4876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600840" y="4952880"/>
            <a:ext cx="3962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5715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manges-tu?” demande-t-il à la grenoui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mange des mouches”, répond-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ah!” fait Monsieur Lap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87200" y="1523880"/>
            <a:ext cx="2819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49320" y="6324480"/>
            <a:ext cx="1295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657600"/>
            <a:ext cx="5943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manges-tu?” demande-t-il à l’oise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mange des vers”, répond l’oise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urk!” fait Monsieur Lap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35120" y="1209960"/>
            <a:ext cx="31240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582280" y="4190760"/>
            <a:ext cx="4572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495288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manges-tu?” demande-t-il au poi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mange des larves”, répond le poi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ès peu pour moi”, dit Monsieur Lap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6120" y="-198720"/>
            <a:ext cx="761760" cy="49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58040" y="1295280"/>
            <a:ext cx="3049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marL="1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manges-tu?” demande-t-il au coc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3352680"/>
            <a:ext cx="48769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manges-tu?” demande-t-il au coch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mange n’importe quoi”, répond le coch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h bien, pas moi”, dit Monsieur Lap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3640" y="-429048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3640" y="6095520"/>
            <a:ext cx="25909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403848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manges’-tu?” demande-t-il à la bale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 plancton”, répond la bale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’est-ce que c’est que ça?” dit Monsieur Lap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011280" y="-47160"/>
            <a:ext cx="914400" cy="43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801600" y="4800240"/>
            <a:ext cx="40384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3657600"/>
            <a:ext cx="60199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manges-tu?” demande-t-il au si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 bananes”, répond le si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Ça ne pousse pas dans mon jardin”, dit Monsieur Lap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01:07Z</dcterms:created>
  <dc:creator>CVJH-LAB</dc:creator>
  <dc:description/>
  <dc:language>en-US</dc:language>
  <cp:lastModifiedBy>nield411</cp:lastModifiedBy>
  <dcterms:modified xsi:type="dcterms:W3CDTF">2008-02-23T22:27:25Z</dcterms:modified>
  <cp:revision>10</cp:revision>
  <dc:subject/>
  <dc:title>Slide 1</dc:title>
</cp:coreProperties>
</file>